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56E3-0C85-4254-AAC8-6897B252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172B-8227-4EFA-93DA-293E3DA5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E5EF-3FB8-4E62-B9A8-39B01349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7D5A-1B88-4EC9-80A8-2BAD598A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F747-73D6-4AB6-8CC5-09AF033A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008F-0D42-477F-879F-93FBB428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09E2-E5F6-4255-A840-66B61B34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75E0-2470-4621-BED9-C982B34A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ABD0-5671-460A-8019-8293C207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EBCB-0070-46A2-B150-BDD1AF30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8569-7228-4132-9FAE-5AD056D5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C0252-9797-4C06-9205-C30D8ACD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3CAD-1093-4643-96DA-DF979D9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FADE-7DB4-458B-8629-F29A616B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69D5-5241-4CD9-A781-FDED1EA7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6F4E-D3B5-4A24-92D5-D48017B2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7A22-320D-4C1D-A7EC-6F162AD7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015F-73DA-480D-964B-3FA70911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452D-94EB-4924-9026-839044B1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DB11-5298-4F42-947F-EF701977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562E-A3ED-4457-B2B3-719E6062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532B-3330-4771-B64A-F3164ED8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7396-2608-444B-A87F-C2623B82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FE42-BFEF-4985-B9CF-C60071AB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B7F0-2BB2-4B69-9A4A-93998C6694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532B-58EB-4DEC-9BF8-76EF16E4F2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hyperlink" Target="http://images.google.com/imgres?imgurl=http://i-love-cartoons.com/snags/clipart/christmas/peanuts/Christmas-Snoopy-Lights-Tree.jpg&amp;imgrefurl=http://www.americamagazine.org/blog/blog.cfm%3Fblog_id%3D2%26m%3D12%26y%3D2007&amp;usg=__rBhIcJYs_2UpnNrw6aJKo0ccmrg=&amp;h=464&amp;w=324&amp;sz=117&amp;hl=en&amp;start=9&amp;tbnid=Hav2nOUV16fYhM:&amp;tbnh=128&amp;tbnw=89&amp;prev=/images%3Fq%3Dchristmas%2Bpics%26gbv%3D2%26hl%3Den%26sa%3DX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oviesmedia.ign.com/movies/image/elf-10-10-sm.jpg&amp;imgrefurl=http://movies.ign.com/articles/453/453529p1.html&amp;usg=__n7uS0MNBQRpNUpgsz7O3L0QA5sQ=&amp;h=432&amp;w=288&amp;sz=31&amp;hl=en&amp;start=23&amp;tbnid=Iq0EW5UyAEiyjM:&amp;tbnh=126&amp;tbnw=84&amp;prev=/images%3Fq%3Dwill%2Bfarrell%2Bas%2Belf%26start%3D2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img2.timeinc.net/ew/dynamic/imgs/041217/16230__asandler_l.jpg&amp;imgrefurl=http://areavoices.org/hodgepodge/%3Farchive%3D2007-12&amp;usg=__qfsaFSp-PXGYlUF74EXcCkYEK1Q=&amp;h=300&amp;w=400&amp;sz=27&amp;hl=en&amp;start=8&amp;tbnid=2yDT3cH8KXbhdM:&amp;tbnh=93&amp;tbnw=124&amp;prev=/images%3Fq%3Dadam%2Bsandler%2Bchristmas%26gbv%3D2%26hl%3Den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hyperlink" Target="http://www.5minutesforgoinggreen.com/wp-content/uploads/2008/07/sleepover-presents-400a081407.jpg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images.google.com/imgres?imgurl=http://santarchy.com/wp-content/uploads/2007/08/drunk-santa-london.jpg&amp;imgrefurl=http://santarchy.com/&amp;usg=__wLC1Tlq7x3fxAQ6YHHn6D_YsGU4=&amp;h=755&amp;w=500&amp;sz=50&amp;hl=en&amp;start=9&amp;tbnid=w8kgAoGQiD3rZM:&amp;tbnh=142&amp;tbnw=94&amp;prev=/images%3Fq%3Dsanta%26gbv%3D2%26hl%3Den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eb.mit.edu/elex/www/secret_directory/chuck%2520norris%2520-%2520x-mas.jpg&amp;imgrefurl=http://blogs.mit.edu/CS/blogs/elex/archive/category/557.aspx&amp;usg=__eB11kJEavV3BN6ji9cb_-nnasHk=&amp;h=350&amp;w=200&amp;sz=51&amp;hl=en&amp;start=1&amp;tbnid=3zchDxrBy3EuiM:&amp;tbnh=120&amp;tbnw=69&amp;prev=/images%3Fq%3Dchuck%2Bnorris%2Bchristmas%26gbv%3D2%26hl%3Den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icanhascheezburger.files.wordpress.com/2007/12/funny-pictures-its-santa-cat.jpg&amp;imgrefurl=http://myronsrandomthoughts.wordpress.com/category/pets/&amp;usg=__YZkqYyJq38XUV8_ZKakg5HN-ptk=&amp;h=534&amp;w=400&amp;sz=45&amp;hl=en&amp;start=38&amp;tbnid=hkjxRoOnSna_3M:&amp;tbnh=132&amp;tbnw=99&amp;prev=/images%3Fq%3Dfunny%2Bsanta%26start%3D20%26gbv%3D2%26ndsp%3D20%26hl%3Den%26sa%3DN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s.google.com/imgres?imgurl=http://z.about.com/d/dc/1/0/p/V/grinch2.jpg&amp;imgrefurl=http://dc.about.com/od/christmasevents/ss/WaterskiSanta_4.htm&amp;usg=__FA7fZChoEuuOodFXy5rIXkxTW4o=&amp;h=803&amp;w=800&amp;sz=145&amp;hl=en&amp;start=11&amp;tbnid=CoCBakfsgoRPgM:&amp;tbnh=143&amp;tbnw=142&amp;prev=/images%3Fq%3Dgrinch%26gbv%3D2%26hl%3Den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ro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05000" y="1600200"/>
            <a:ext cx="2934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65640" cy="457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348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352680" y="3505320"/>
            <a:ext cx="5791320" cy="335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4495680"/>
            <a:ext cx="335268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0"/>
            <a:ext cx="586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844720" cy="4267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632448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42670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315200" y="0"/>
            <a:ext cx="1828800" cy="3333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19520" y="34290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809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ERRY CHRIST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3733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5943600" cy="312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809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0" y="0"/>
            <a:ext cx="3657600" cy="3724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5943600" y="3809880"/>
            <a:ext cx="3200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En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rry Christ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essed New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Art and Technology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1:16:04Z</dcterms:created>
  <dc:creator>kids</dc:creator>
  <dc:description/>
  <dc:language>en-US</dc:language>
  <cp:lastModifiedBy>Patrick Mooney</cp:lastModifiedBy>
  <dcterms:modified xsi:type="dcterms:W3CDTF">2008-12-15T15:53:44Z</dcterms:modified>
  <cp:revision>12</cp:revision>
  <dc:subject/>
  <dc:title>Austin</dc:title>
</cp:coreProperties>
</file>